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CCD-E32C-4899-A8A0-D65A5A6D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677-6EEA-429F-9DAC-8D1C9153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F1F8E-3C05-4AAC-8C9D-35404BF0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5B7CB-1C4F-43CE-B724-AF184778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EE4B1-F79B-4582-A698-B7A2AC9C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0B7A2-61BA-4FF1-8D75-6794042B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84C5C-2EA7-449F-9468-0E3C225C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13310-8FFD-4700-B025-5FF30EEE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A0C4-3376-40B1-8B92-011C0A17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A95B7-63D8-4AA9-940F-C7E7F966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DC683-63E7-4901-97F7-0D9E5CD5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1C8DC-748D-404D-9CE7-FEE84DBA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747-D234-412B-814C-0C9FF38F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32921-453D-45DF-9CFB-F480CBF1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3EFBF-F330-47BA-B048-BCE9DF05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F012F-D9A0-4E2C-BFD3-1BDC7975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9EA17-7926-432C-B214-8927F3D1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92F46-48FF-43CA-B306-18FD8870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EB416-0D06-4F52-A7AA-529A01C7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97FE4-423D-418A-80EC-D0BB8AAC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32E9E-92B6-43D6-BD12-844B8414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70B33-A13D-4A97-A586-EBDE835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A4FBF-5943-4157-BA00-5BC43A87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522-4479-4B13-9904-059C2F92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167D2-0699-4463-BCC5-A1E83D4C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AB578-03F9-4CCE-8B61-A57A2FFD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1C481-4B8C-4F39-BF08-DC5D1213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9EA7D-FA4B-4D07-AF0B-A33CA562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AB864-2F79-4516-A3DD-71195DBC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71178-62E7-4359-A83A-19A96476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60092-F511-4CB0-9D33-D3124605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676F9-CA91-4233-816D-E139222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CE81B-ADC6-4D73-ABC3-25C0533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19688-7975-4C17-BEA7-9F2C13B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D136-864E-4ED9-8667-89072364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8BA85-AB7F-4CDD-8EE5-4427B942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966DE-6BC2-4B12-B771-1075F113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3A94A-773A-4936-8365-DF8FB14F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BBBBF-D806-4FB7-8159-BAEDEF4C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9C15D-7CD5-49A9-94B8-10298A9F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F9F4F-D62C-4914-98C3-7A75B0E7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61333-1155-49DB-AFC2-996ECA2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E3B7C-1812-4FA6-90C1-A1E2C8F4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752DE-B06A-4E4B-89E9-7DED4BF4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56EAE-5A0F-42EA-B36F-34EA0231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72AC-AF27-4FED-8AB7-B71C06CA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38687-97FF-4C29-AB61-014C6E8C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9BE49-2059-4C1B-ABB8-8333A66A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DB7F8-AD1A-4AFE-89F8-455DB36E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98FBA-EAE6-4C32-B500-B0169742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85360-D29A-4D4B-B152-326AC872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E9D15-45F3-424F-8E60-53D30066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D07CF-50DD-4157-8E7A-F0BF3C64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AF902-56E7-4818-BF36-E4717ACB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E096A-7E04-440A-A3D4-D86220EA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09FB6-20A1-44C8-B0BE-A5F08973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2446-CC6E-4473-B7DC-4D5E2D1F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52255-90C6-480E-82BA-5CA86114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4A64C-9584-4926-8DC6-B26ACF6A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4C9D4-F458-4BDE-A919-F6F8F92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3C8BB-02C4-4EEA-9726-B3E8775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06432-0E08-4664-A9A2-39B4A3B5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670A5-9F34-4091-A6FD-9E5A2342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5DD54-236C-49EF-8FA5-DFCF89D8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DD818-E808-4D4D-B2B8-AE89390B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1B468-6514-426A-9A6E-5CFA9A4F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AC933-241C-4731-96AF-19F1E03B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8A52-916D-43AD-970C-01AB22F1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F44EE-A249-476E-B0B2-DD15232D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F18AC-7E45-426B-B67C-EBF050E5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24AD6-2301-4231-BD46-621579FA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C68AA-B1E5-433D-B6A5-D299F20A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C547C-519D-4957-B82B-38892D4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48093-EF6B-4E05-B2AE-F1FA8D77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D23B4-DECF-41BB-9D2C-628DF0D6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97D75-D753-42A1-BB5E-FAF64B9F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8171B-DAE3-4C7B-9FE6-22B9B418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71E12-1CD8-4A54-B794-87D593B2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0447-7651-48B5-B25F-2130AEE0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2BBC0-03E4-46CE-8548-FFC73BA2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D3B8D-9A8A-4D51-9848-80313FBE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B0937-ED8D-4C0D-BBAA-E747495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FD68E-4A4B-49FB-B930-6C5CDAAE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87F1E-A949-46D4-91DF-AB205FD3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CE1E0-67BD-48B9-89E8-4FD8D0AE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F969C-EA8B-43CA-A402-1A573B73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CC147-3B3A-4468-BF99-02D9F28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AB558-6F47-4454-BC29-89E9A47E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9C5E4-BD7F-4481-BE9F-58C250E5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477E-BFC7-47AA-A4D8-F37866AB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E9D4B-C2D9-4A7D-A0F6-3A19BB0E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3D81B-CB8E-4326-9DC9-833B2B9E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8BD2C-425A-47D0-87D2-1B306371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A1053-C7D0-491B-BC37-35F2A0D6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26AE0-C616-433C-BDD5-6737215D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9001C-1D62-499B-8F55-9D04B48C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41CAC-FAE5-40B1-AA57-C0A5BD39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E113A-231D-46E3-8FE6-C08B68B5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B83B2-2F52-48BE-97EE-F46EC8E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79465-0E88-471D-8096-9D26DA8E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DAF7-0FE9-4D28-86EF-EE2E007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BF189-D33A-4FEC-9C35-9ADFAF3A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B7349-1561-4C9F-AA9F-DB6D7E57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98FFF-E6D5-4033-B496-32D1566E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C0877-4564-4F6C-BEA6-E330A5D8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0DF60-AB0D-4E69-A72C-A6FC630E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371C2-BD47-4815-968B-74634994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610FD-6088-421F-B0A0-4DFD02DE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EB568-0224-487A-A2F9-0F612741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7539A-CD79-4C7C-8CD8-43075BF0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9D776-7AE1-4848-A5C9-D146857C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957-1DBA-40C5-9DB9-30455868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E318-15BF-4988-9C45-A983056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A3370-99BF-4A05-9250-BB6BAEC1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E628A-52B6-4F3B-8F8A-49B2B3A7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4D533-3C2F-4B84-A1CB-444B6DAC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63C88-11C7-46D5-BB0F-4F04C0FE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62E56-90C4-4A7D-841F-24004D8B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62187-21E6-4B70-B8DE-09CBFADE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74481-A18B-4C0F-9981-E7D1AB47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681082-EB96-4239-A239-03889B07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A5CF0-C2F0-49A7-A2EC-102B6D73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915DA-2187-4467-A4D7-B7B6FA09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EB43-ADA7-41D2-9775-19C5D150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51F5E-0045-4608-9629-AF1BF907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8A2F9-1678-48B8-8355-655E54DF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24510-370E-49F3-9686-F57E6AD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C3A4E-65C4-4215-A76B-3B89005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7DF20-41DC-4F92-9EC7-C47BDC4D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FCCD2-1182-455C-B73C-11B23532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892FA-BB94-4309-82D9-54D0BFBC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75459-3AF2-44BB-AED5-86F12C5E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A8047-3629-4EF8-82AA-FCD14481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A9C663-B12D-487A-8510-6C60E97D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111F-802E-487E-8580-78CE820C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FEF2B-65E3-4F1C-8C66-B47DE457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BC75BD-BBAA-4278-988E-91CAB886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29E02-377F-4CEB-8E26-5BE8F560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B11FA-5758-40D0-840D-AC9D386B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5768F-D5D5-4024-94D1-66831269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EE2A5-C7A4-4D0B-8780-ACA34F6C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9A7D6-D83E-4857-91EF-D3176238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C7985-0D2C-40FA-8A74-50F9829F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8F392-96AC-4E59-A2FF-48B15A77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DBBC64-8030-4A24-B736-E08C36C9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5369-EB8D-4748-A88C-F011A7FC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FB592-8123-4180-BC30-A2D7DAC7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D50AF-B7ED-4FC6-A45C-D7F94C72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61B4F-4830-4C98-90EA-9085788F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766069-19B3-4EDC-B866-82B5E9B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5D303-21C0-4811-B7D4-F884B2F0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7B5F4-CA30-405F-821C-0BAE073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5271F-23D1-4D91-AED1-607C005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CB528-BCCA-40FD-AA35-3D49FE6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BE937-2A27-42CD-BA0E-4E316553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FD299-CF93-4D7F-8233-6F88EE27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1B2-0237-4558-A3B4-9C169288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0B7F0-29FD-4C69-8EEC-A0F4BD05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54C55-647D-4EF0-8C38-5E9AE1CF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6A8041-2C3D-43E8-8458-08EA81F1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DF1AB-2FFB-42D4-8528-5B8DDAD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15AB8-2814-42CD-B70D-2CFB800C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D48F46-6FCF-4845-B53D-8B7B74ED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E48E3-9BE9-463D-9A57-5C7B469C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964FA-D518-46C9-B032-A9B378CD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B43C55-8681-4F6E-ACA4-C60CBFAC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793D45-F0C3-4E20-BB22-886C11A5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FCF3-BFE6-4067-966D-DA2D3051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6A94A-C21C-49BE-A278-188C8CDB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7714D4-E36E-4454-8A4E-78D08054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4B02C-28A3-4562-A531-DB6C1B7A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78E8-93E7-4C1B-92D5-01B59BA4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DA4D-C0F3-47FD-A09D-83B5568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D4A4-AA88-4525-9B85-A95A6147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3135-5ADA-4186-8513-CAA5228D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EDF-E347-43B0-A9A0-50397C7B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69FB-CD26-415B-B277-72AD848E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DA46-14C6-42C0-97D5-467FD9B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8167-DE57-429C-9C98-EEEC301E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E66D-B571-4E56-977B-B67EA8A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5A71-0A7C-43B6-A17B-470FDF5A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747A-1580-4BDA-A7F1-9621CC81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861C-D069-4E9C-B668-3279F05A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9DDC-713D-4725-A3AF-064840B5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ACF4-6A98-401A-A9BF-4F9AF42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BE71-5D68-421C-976D-3639E101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237-36D6-4554-B968-DC07BE9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18451-4B00-4E23-9CD6-0FF172D2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48F7-6A2E-48F2-9718-EE2245FE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76ACC-9370-4FE9-A913-3A47D2E5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8729-E8E0-4FE0-8E51-E955FEAE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BBDF-2B19-4054-B62C-9D03907C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0202-2FFB-4B72-B511-C6C42E5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C395-AEA2-497B-BF64-AEAD33B0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A559-8663-41B8-A043-231BDBEF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B780-8971-45F1-B642-A5D9E3CB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CBE25-A763-4232-A05F-28363EB1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DAB-FEA9-442A-BBF3-9D03EA56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E02C-1E13-47D6-B1D7-6A1F0320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96877-FA82-4F67-97A4-9AA90B1E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BED96-36C9-4797-AE8C-17099FD6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1D92-820B-4332-B309-92E2BEE6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B192-3A90-49D3-84BA-75E4A292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5179-50D2-476C-BF92-1AFF6791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854B-CBEC-4A41-B359-0BE8A3B3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3F39-4F5E-4638-ADDE-A7EA9C65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C0EA-0FF9-4EEB-B293-D30958F6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BFC00-E81D-484E-B43A-4BB4F40B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432-A1B4-442B-82A2-6BAE4940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EE241-EF1B-48C6-9C76-F60D229B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70FB6-2A1C-4E1B-BF37-733A148F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B1AA0-DB46-4CB2-B489-571BFE80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252B-6216-4EA0-A2C2-9A5BC209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7BBC3-9606-471C-899C-10227FC5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63CE0-A452-434E-AFE8-12F91D84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FD2F-7B6C-4F07-A94E-396303F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08E06-2069-4F6D-9512-B52C85F8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DDCBF-5EF0-4310-8570-91D4181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B0D55-2124-4495-B0A0-8145D72D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4D1-74BD-471F-9315-D3940D7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2C27-827B-4E6E-A0C9-C70AE3FD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8356-8C5A-4973-B0EF-A00C15A4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B5719-6B87-443E-B16D-19D0E7C5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DE9D1-9F62-4753-B9BC-B40286DA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11549-9C22-4579-94B5-2BC49171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917FB-B5A6-4130-8AE0-194D9D5D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6E0D9-9646-4673-8E13-6378B6A1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B3C8F-B4EE-4F09-A027-782E97D0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EB77-A4E9-4C55-AFC7-20A57BC6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970AF-12E8-46C0-8AD4-FA386D0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905-3218-4B51-B541-07FE0E4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3E18-8A32-4972-AA20-0FA9557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F2BC2-70F8-429C-97AC-C065B19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43FA3-FD13-4A12-8B20-A74015C3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97531-5AF3-48D9-9823-7392AEB8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CE57-8DFB-4936-8E4E-27386BC3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9648F-4105-4CFD-BAF4-B030B399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E5EB5-79E3-4903-B675-9C7F193D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A97F3-21E1-4FBA-9AA2-2ABEE58C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52365-F699-481A-89E6-04CAFD08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1BCF4-F034-44A0-A6C0-2A7AEC76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2A2-62FA-4288-AF64-5202E81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A982B-F8D7-42D3-A4A8-8A66F9B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FE337-78CD-47F7-B56B-D092E39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5BA39-2289-4B4A-AF5B-1E82AEBE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6BAF-83C2-4234-BAEC-B1A7FD8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79D62-3BCA-4360-ABAC-9B809580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BE108-6914-4822-8729-6EE16E19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F18F0-4956-4237-A086-7F995205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28EA3-1D4E-42EA-8D05-3FF20F6F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4D873-5ED6-41A0-BC87-202A9188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D77AB-C1F7-42D0-9FCC-D2D7094E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B4A7-5B79-46D7-AAAF-F3428E3D6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F331-755C-412C-9FEC-D69D3E67F2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5344-2890-4C62-A2CE-970DCA42E9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9792-F3AA-49F7-9C46-B57CAA35F2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DDEC-146A-4998-9D1F-02C44E2CDA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75C1-6D83-49A0-9D38-9A1ECD642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A46C-3F03-4260-8155-24DA646AEC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E2DE-D0A0-453F-90A0-1584327590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DB29-5F4F-4C00-8C3E-A5BBE764FB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A142-C005-4F0A-A85E-984194C7B3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6FD-0152-4F1B-9797-3341A3517A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921C-B054-4FAE-8627-20C28BA062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841F-FD7F-4089-8CB1-60F0F9D543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96BB-A79E-4B39-B9C1-0976787C7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F9D2-64C8-443B-ADDD-A5324314E4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CDCF-6E8E-4871-8D6D-FD60224695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FED0-0F8E-4E38-B369-D10043F1B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D4E0-6B95-4013-A6B8-FDC296040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5C36-5BBF-4C28-A782-134FEB6DA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CC57-3B55-4CC5-9437-156250A4C7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180F-D8A7-44BC-95E9-A67F2E3B61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B8DF-86DD-4626-9880-1AB4344C80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65E5-124B-4328-A06B-7989EE518A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DBC3-C8C9-480F-B12C-879F2B331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05D1-61E6-4B03-B2D2-9749E6DE4E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FF88-C6C4-4E0F-84BB-EAC564D67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0A17-2035-4293-AA31-3CF4291A98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FE0E-1581-49A5-8CC4-4D3EC6218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F1B6-AABB-41A8-8EAE-BA1C18AB3F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02E0-AC68-4BD0-A1AD-BD08811747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705E-6EF9-415B-809B-719DE830B2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184A-0E12-433B-BAC1-C8280030CC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63E0-2643-4991-A13A-B4CC84D8BA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6E43-B203-435B-9CD3-CD7FF8F38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C5EE-91E4-4E06-8AEA-306B5AE0D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3E3A-45C3-4945-AB8C-2BC105B104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B97-7B93-427A-AA8A-80FB84CC9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CAC2-68EE-4048-B713-3C97FB3F4C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5EAC-94CB-4C63-B919-CE989901C3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9AA0-9031-46A0-BA82-8F3DC80658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2195640" y="3124080"/>
            <a:ext cx="47527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514440" y="2562120"/>
            <a:ext cx="8115120" cy="1733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1000080" y="2541600"/>
            <a:ext cx="1928880" cy="393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3786120" y="2552760"/>
            <a:ext cx="1928880" cy="393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6877080" y="2540160"/>
            <a:ext cx="1928880" cy="393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1000080" y="2975040"/>
            <a:ext cx="1928880" cy="393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6"/>
          <a:stretch/>
        </p:blipFill>
        <p:spPr>
          <a:xfrm>
            <a:off x="3786120" y="2986200"/>
            <a:ext cx="1928880" cy="392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7"/>
          <a:stretch/>
        </p:blipFill>
        <p:spPr>
          <a:xfrm>
            <a:off x="6877080" y="2973240"/>
            <a:ext cx="1928880" cy="392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8"/>
          <a:stretch/>
        </p:blipFill>
        <p:spPr>
          <a:xfrm>
            <a:off x="1000080" y="3394080"/>
            <a:ext cx="1928880" cy="3920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9"/>
          <a:stretch/>
        </p:blipFill>
        <p:spPr>
          <a:xfrm>
            <a:off x="3786120" y="3403440"/>
            <a:ext cx="1928880" cy="393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10"/>
          <a:stretch/>
        </p:blipFill>
        <p:spPr>
          <a:xfrm>
            <a:off x="6877080" y="3390840"/>
            <a:ext cx="1928880" cy="393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11"/>
          <a:stretch/>
        </p:blipFill>
        <p:spPr>
          <a:xfrm>
            <a:off x="1195560" y="3822840"/>
            <a:ext cx="19285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328680" y="1015920"/>
            <a:ext cx="84866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33360" y="1038240"/>
            <a:ext cx="8477280" cy="5229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750960" y="2244600"/>
            <a:ext cx="542880" cy="463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750960" y="2714760"/>
            <a:ext cx="542880" cy="4633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750960" y="3537000"/>
            <a:ext cx="542880" cy="4636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750960" y="3997440"/>
            <a:ext cx="542880" cy="463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750960" y="4465800"/>
            <a:ext cx="542880" cy="463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750960" y="5343480"/>
            <a:ext cx="542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352440" y="958680"/>
            <a:ext cx="8439120" cy="565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750960" y="928800"/>
            <a:ext cx="542880" cy="4633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750960" y="1816200"/>
            <a:ext cx="542880" cy="4633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750960" y="2714760"/>
            <a:ext cx="542880" cy="463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5"/>
          <a:stretch/>
        </p:blipFill>
        <p:spPr>
          <a:xfrm>
            <a:off x="750960" y="3486240"/>
            <a:ext cx="5428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57120" y="930240"/>
            <a:ext cx="842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455760" y="819000"/>
            <a:ext cx="8439120" cy="126684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3" descr=""/>
          <p:cNvPicPr/>
          <p:nvPr/>
        </p:nvPicPr>
        <p:blipFill>
          <a:blip r:embed="rId2"/>
          <a:stretch/>
        </p:blipFill>
        <p:spPr>
          <a:xfrm>
            <a:off x="474840" y="2314440"/>
            <a:ext cx="7534080" cy="42102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750960" y="2286000"/>
            <a:ext cx="542880" cy="463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750960" y="3112920"/>
            <a:ext cx="542880" cy="463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750960" y="3935520"/>
            <a:ext cx="542880" cy="463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750960" y="4772160"/>
            <a:ext cx="542880" cy="4633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7"/>
          <a:stretch/>
        </p:blipFill>
        <p:spPr>
          <a:xfrm>
            <a:off x="750960" y="5629320"/>
            <a:ext cx="542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366840" y="754200"/>
            <a:ext cx="8410320" cy="59338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730080" y="714240"/>
            <a:ext cx="543240" cy="4636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750960" y="1571760"/>
            <a:ext cx="542880" cy="463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750960" y="2428920"/>
            <a:ext cx="542880" cy="463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285840" y="4087800"/>
            <a:ext cx="8775720" cy="423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6"/>
          <a:stretch/>
        </p:blipFill>
        <p:spPr>
          <a:xfrm>
            <a:off x="285840" y="4943520"/>
            <a:ext cx="8775720" cy="414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7"/>
          <a:stretch/>
        </p:blipFill>
        <p:spPr>
          <a:xfrm>
            <a:off x="285840" y="6221520"/>
            <a:ext cx="8775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299880" y="835200"/>
            <a:ext cx="8544240" cy="5905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8775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343080" y="101592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2:20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